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934-3498-4CCC-848C-203796CC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2F1-A6D4-422C-90DA-5E8168D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2C0-738F-40BF-AD0F-A6EFB452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26A-24DF-465E-9EB2-76EE74BB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A2D2E-7F74-4B9C-B8D0-8DCCCFF6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509FF-22EC-453F-BB2B-5FAFCAC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5062C-9416-4887-9F03-C64049C4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AAFC0-F568-4ACC-8014-C116D08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40953-4516-484D-8301-E2F239D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2D479-FA06-4CEF-BC9A-F6302438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0ED8C-E90C-4C70-9B00-C69888A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9B8-5A6F-4DA4-AB12-9A5CFB6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EFD7A-CC7E-4CC8-8841-8D8D895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9A6FC-5680-463E-8F85-8ED99627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4B6D-9CD8-4192-A362-A2A08502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AE365-F949-4AB0-9DBA-21C7BF10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C2975-B34A-4F80-8477-5EE85EC3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8770-E76F-46F7-8474-729927B4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3AD1-6A83-4813-85A6-AEF28CFF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7DE9-5CD9-486F-A859-CC35160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0B00-F35C-4330-A21E-749FCF8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90A3-E30E-457B-86C2-2852E1B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D65-C881-4AF4-AFF8-605863B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9C99-26F0-40C5-9906-A10096C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DDE1-9231-4AAD-963C-EE5C14A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4F28-B2B0-47C7-B5B1-6320A56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4665-49E1-4DDF-8B06-9EE26A8F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EDD1-78E2-40DD-A832-1000A63B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7F61-1E2B-488E-9669-EB9EC5D3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B20D-3420-4BA9-ABBC-0762D515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57B4E-1DD6-4B78-95A6-C964F5E5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CD908-8F79-4CE5-905F-C512B5D3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BBB57-0FC4-496E-B2EC-74DCCC00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FF1-7A1A-4A58-8FF2-84A38DB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5878F-D0BD-4E77-A76E-8831C26F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4A6EC-C4C5-41D8-9FC7-E063AEE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43146-59B1-4171-8B5E-0FE1EB47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5072D-EA22-468E-BD8A-FC9400C8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9156F-B28D-41E6-B00C-2E3B0D7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5D37D-C1EA-4C40-BFA9-5C87C55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51142-0D77-40AF-914E-9190D1E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E8BFA-A4E2-4DA4-A0C6-F7B9E1C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43CFD-CFB6-4955-91D0-A6862BBF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F53-2EEE-4F07-92AE-B325F50D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8A0-9376-4FC9-B1E4-EA67115D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330-D290-4C36-BB88-1228B36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B84-A3A3-41C1-A17B-39B57976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76D-B3BD-443B-90B2-F937B7D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F78-5C1F-4EBD-AF67-A351ECA4916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DA06-5A74-4602-A2CF-7C4BF92EEE6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49E2-B7F4-4935-8EB4-54116792D22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42AC-5FD6-4256-BCED-677B68D4092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00"/>
                </a:solidFill>
                <a:latin typeface="Kristen ITC"/>
              </a:rPr>
              <a:t>Display Formats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Picture 7" descr="animated_teacher_2"/>
          <p:cNvPicPr/>
          <p:nvPr/>
        </p:nvPicPr>
        <p:blipFill>
          <a:blip r:embed="rId2"/>
          <a:stretch/>
        </p:blipFill>
        <p:spPr>
          <a:xfrm>
            <a:off x="685800" y="3809880"/>
            <a:ext cx="2482920" cy="2590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708440" y="399888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41148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Educ 213 – Ed Tech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Melanie Jeane C. Galv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Education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Ateneo de Davao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9f9f9"/>
                </a:solidFill>
                <a:latin typeface="Constantia"/>
              </a:rPr>
              <a:t>To put up a display…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onsider the following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Audience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Nature of your visuals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Communication/Instructional setting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Lesson/Communication objectives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Availability of various display  formats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685800"/>
            <a:ext cx="2487600" cy="2405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halkboard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Multipurpose boards (visual aid panels)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useful for many purposes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With magnetic backing 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With non-glare surface = to project films, slides overhead transparencies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80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Pegboard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useful for displaying heavy objects (3d materials and visuals)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Metal hooks can be inserted to hold books, papers, &amp; other objects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83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Bulletin Board Displa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For posting brief news announcements or urgent interest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Can be decorative for visual stimulation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86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loth Board (Flannel Board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Magnetic Board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Flip Chart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Exhibit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</a:rPr>
              <a:t>Table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</a:rPr>
              <a:t>Shelf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</a:rPr>
              <a:t>disk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9" name="Text Placeholder 8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352680" cy="3240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1196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Tips for Bulletin Board Display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Generate a them and adopt it as a headline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Use simple words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Gather or produce materials such as photo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lect a background materia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Provide borders using ribbons, color paper, etc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Print or cut letter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Appraise display from a technical viewpoin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5:27:13Z</dcterms:created>
  <dc:creator>LAB_E</dc:creator>
  <dc:description/>
  <dc:language>en-US</dc:language>
  <cp:lastModifiedBy>Melanie Jeane C. Galvez</cp:lastModifiedBy>
  <dcterms:modified xsi:type="dcterms:W3CDTF">2010-08-05T14:14:19Z</dcterms:modified>
  <cp:revision>10</cp:revision>
  <dc:subject/>
  <dc:title>Slide 1</dc:title>
</cp:coreProperties>
</file>